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B98-EBB7-49A7-B6D1-3B6A3BA6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EA60-4CC4-46D8-9D9E-FDC45689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8D4-EE8A-432A-97B6-ECEFEBDC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722-0D49-472A-97CA-1C51C727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606B-5AA2-44C5-BD27-740ACC64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514D-A45C-4561-883C-0CE04A5C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1F3C-79C3-4782-ACA7-29EB93DF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6BDB-93FF-4999-8129-798A7B36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6EED-FED6-4692-A906-7407DEAC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74B5-8FE9-4F10-ADF3-6326F777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898F-8E09-4DF9-9A3D-CA947D14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2752-DA6E-4C39-BAD8-6300F31F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349F-FAA5-4C31-AAE5-8D30FDEC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C0B4-B6AB-48D5-9A45-222F4B3F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8001-D85A-462F-9C27-E2AE36EA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1FAB-7588-4813-B523-E5BF7BFC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758B-9DF8-49BD-B449-3E6C922E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D6A47-1335-4A35-9761-3A18F735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9660D-15A8-44C2-8136-29445B3C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E5A6C-2AA5-43CA-96BC-412F2040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90DAB-B4B1-4768-A37F-E675E768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9FC09-F0BF-4D23-98F1-33A84BF1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F1EF-F7B4-440B-B4A4-D42905E4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8BBFD-D298-4C80-98AB-D830513B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5D4F3-03B3-47FE-9BA8-20CEC5E9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56203-D9C5-489A-87CD-45119A2F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216C4-4F9F-4006-B302-B840157C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D99BB-3ACF-4351-9C4D-F8BAF839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8E99A-FAFD-4601-A2FB-99AD9EA3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4FF77-F488-4A7E-8B8F-F60FAD2B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4BC0B-777F-45D1-A338-1F6618A0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D5214-54BF-4A9C-B6A8-DBBE842D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240E7-A447-485B-A914-6D1BC2F9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C988-483D-48DB-8128-53377403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FA602-B025-4482-ACF3-3A55546B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3C873-E91B-45BD-A871-FF595C91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C03EA-F55A-45FD-AA4D-F2D3409C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1E5F9-49BF-43C6-BED7-557F3927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612EC-CA9B-46ED-BC2A-37615623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CEE45-7A45-4607-863F-0A3C22AA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BF187-6768-481D-92AD-DE1EC888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815C2-C83D-426C-BB0F-C06214D1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32E81-336F-4D17-9A5D-B6DF4863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5C14-69D7-4C99-A305-333A9ECB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CE7-C816-4834-AFF3-120BDAB0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D1D7-5B33-47CC-AF8C-8762E456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129-E390-4D13-A401-263C07FF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F9F5-0E04-4470-B36B-8EC8F58E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49434-8A05-4151-B7F9-C2C2C7518E98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67E20-9203-4BAB-A674-9AA8D31E7D93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0821E-607B-49FA-8978-1A5087C5C52D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E7367-39C5-4075-B213-344AF68456F3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四章</a:t>
            </a:r>
            <a:br>
              <a:rPr sz="5400"/>
            </a:b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7f7f7f"/>
                </a:solidFill>
                <a:latin typeface="Times New Roman"/>
                <a:ea typeface="华文新魏"/>
              </a:rPr>
              <a:t>本票和支票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五、支票的保付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付的法律效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31320"/>
            <a:ext cx="8763120" cy="21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一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  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      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本票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本票的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本票是出票人作成的一项无条件的书面支付承诺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480" y="2160360"/>
            <a:ext cx="6770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中国票据法定义： 见票即付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银行本票 （商业本票？）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941120"/>
            <a:ext cx="85374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二、必要项目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本票必要项目包括以下项目：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表示本票的字样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无条件支付承诺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确定金额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收款人或者其指定人的名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出票日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出票人的签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本票与汇票行为的差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出票行为：出票人的义务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提示行为：提示期间的不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二节    支票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支票是无条件的书面支付命令，是一种以银行为付款人的即期汇票。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必要项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表示支票的字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无条件支付一定金额的委托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名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日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人签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票据金额和空白支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出票和空头支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四、支票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般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特别划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7:30:26Z</dcterms:created>
  <dc:creator>lixiaojie</dc:creator>
  <dc:description/>
  <cp:keywords/>
  <dc:language>en-US</dc:language>
  <cp:lastModifiedBy>li carrie</cp:lastModifiedBy>
  <cp:lastPrinted>1899-12-30T00:00:00Z</cp:lastPrinted>
  <dcterms:modified xsi:type="dcterms:W3CDTF">2023-07-26T04:08:40Z</dcterms:modified>
  <cp:revision>10</cp:revision>
  <dc:subject/>
  <dc:title>第四章 本票和支票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