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0B553-E9B4-4065-B482-F115AFF536E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C456E-48BB-45DE-A563-442D73B3619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24AAE-814E-4A7B-B314-215524151C9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CBE21-5419-4533-BBCE-7A3307E263D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7EB21-AD7F-4AFC-BC4D-447C8539EFA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8644E-7157-46CD-BB98-8261AC31A1B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693B3-81AF-4FAF-9CBF-688B5C0C310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1518B-D72D-4D95-9BCE-BFE097E2EDD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DE5B7-8B15-49C6-838A-FAF0B368943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038E0-823A-4DE3-B42F-7492B629D62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420DF-8571-4646-B7A9-95175CD4258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A1C5D-6EBC-46EE-86DE-65F5C4656B9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872-796A-46F7-B200-EECBCCEF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C41-BDB4-40E3-A8E7-6A03FBC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4C7-141C-4A21-9AC2-D8FBE558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AF3-97D0-4F25-AEDA-4CC1F3C9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F18-BBDE-4864-885A-D86FAF5B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082-A44B-4E76-9877-5183C0F2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0134-3664-4664-823C-9A2E7FE7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C9B-B1EB-4BF2-8AE7-0124FFF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A807-A30D-4E0F-9F09-020E6D4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E65-A0F0-426B-90D9-6F9C6A3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E49-D629-4391-8727-747A832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D61-B22D-43FE-8063-A3B6179F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6F8-8E28-474F-9816-F9080BE2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C85-ED27-4B5C-AA7B-A93B208D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91C1-58F6-44F1-9424-91D4124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5C60-6234-426A-9E53-DAABD4A0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13AB-AA92-471F-983A-58B491F3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76CB-17BB-4407-B659-62F999F3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3D52-7A6B-454B-BC51-7DFE8E23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0FCF8-262C-4B92-A715-55C07E7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8C1D-9D19-4E22-AD95-ADAB09AF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2258-D33F-4B80-A4B5-B71F8AF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764-D2FE-4D37-A484-999361D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C5BB-59B1-4566-9153-574882D3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D800-04F8-489D-83DF-88B44F4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F037-56F9-4931-90BA-0CFC6FC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D5EE-A19C-4FA0-B00E-21A9EB8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869D-F19A-476C-9666-6F7A9F95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456D-B3A0-4D2D-AF0E-04D434D7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5DBB-7770-4F37-8405-D3BC55A3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4A6D-C7AF-4549-96AD-3F4E56E9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ED0C-EC6C-4385-8D7F-8BADD07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9B09-8430-4F72-991C-7207148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B3F-1D2A-4D65-9890-F0A1BF65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9ABA-0050-424A-BD89-B861894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08FA-BE89-47C8-8206-F8A3F44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18ED-7E28-46C0-AF22-E87E44C2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62DD-3C27-4979-A4BC-6577E3B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37F4-C7E5-4B15-899D-8B8A4D8E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6A90-C220-4E60-9236-B1D4000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9CD1-9794-437A-96B4-588F9DC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CC7F-1372-476C-A43D-CAF36B2D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B12A-363E-4560-A28E-BF2688A9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5C6-91F5-4E8F-9BC7-950D6436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17C-DF4D-4187-B4F9-579E143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ECF-80FE-43CE-9509-6E2FD0C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196-2DA7-4361-B4BE-472D9C3B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BF1-72B8-4F92-8E48-CF3B8CCA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5BAE5-87D5-4D60-8559-3F9FB3F08091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B829F-E45E-4315-B0D6-7115060A7AD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AEE40-FB29-4155-BA14-5CFA0F5120CC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F92CF-3530-4E6C-A9F3-2FA1B6D1D072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1844280"/>
            <a:ext cx="58276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十一章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7640" y="3500280"/>
            <a:ext cx="849636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国际结算的单据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以及单据审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四、其他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检验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产地证明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装箱单和重量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船公司证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五、单据审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原则：单证相符和单单相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审单自动化趋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不符点的处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商业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形式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关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领事发票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二、货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内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当事人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arr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hipp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signe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fying pa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已装船海运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清洁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记名提单和指示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倒签提单和预借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运提单的国际公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海牙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维斯比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汉堡规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空运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铁路运单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邮包收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多式联运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三、保险单据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全损和部分损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共同海损和单独海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承保险别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基本险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P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WA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，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LL RIS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附加险：一般附加险和特别附加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8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.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据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保险单和保险凭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流动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loating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和 预约保单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pen Policy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4:40:37Z</dcterms:created>
  <dc:creator>lixiaojie</dc:creator>
  <dc:description/>
  <cp:keywords/>
  <dc:language>en-US</dc:language>
  <cp:lastModifiedBy>li carrie</cp:lastModifiedBy>
  <cp:lastPrinted>1899-12-30T00:00:00Z</cp:lastPrinted>
  <dcterms:modified xsi:type="dcterms:W3CDTF">2023-07-26T04:00:17Z</dcterms:modified>
  <cp:revision>8</cp:revision>
  <dc:subject/>
  <dc:title>第十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