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EC60-71B0-4AFE-A2DD-D3689F98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8CFD-8F82-403E-9DBE-7E4FC916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B7AE-A40C-4A9B-9401-4CF1D6CD9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6B3A-9C61-4FE4-AC58-055F70452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95B3-9490-4A48-9D7E-92DDFF819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FF7E-3457-4E07-837F-23F5B4FB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6868-CEF8-4684-873D-56FF68C5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930B-731F-4DCC-94A0-6B9033C9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B644-B3AE-45AF-A9C9-90EBC88D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55A0-039C-4149-9600-0FA8553F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9675-F022-446A-86F0-EB3FDCB0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B13F-05AC-4B01-8FC1-89EB0EB1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9B79-8114-41DD-A85D-9073DAD8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727A-171A-458C-BA75-D983D23F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7C1E-73B9-41C6-AFD8-2B436AE1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9BF0-E640-4253-9C25-A3F3801FA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D221-0624-4158-8C15-936C126B6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85D5C-3842-4194-9073-6A421543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E78E8-0813-44E3-B606-6721B0C8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4BED7-9ADD-4EAB-9A87-9E2F4D36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7EC69-55DE-491B-B16F-E4E9990C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4A37A-F728-4053-9ACC-FED17206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50F1-93EE-4F1A-88D0-31E03BA0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4C57E-0611-4946-A879-704574F3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48C25-7064-4DB9-B531-7416E378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33932-D52F-4B2B-B630-4CDEF855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80A04-033A-4B91-8942-49CC1223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7C20F-F4F8-466D-B2DF-E60CCEDC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8BB02-89F9-4149-B158-449491263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EC903-007E-452D-89A3-C0243419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CED9D-9B00-4FCB-A500-706C669FB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1BD82-B516-463B-9193-F7DCE607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BFF27-1AE1-4059-A4AC-45244B37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F270-DA04-4372-A03F-C4190854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C7363-0F28-4175-943C-ADE6734C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C560E-E684-4C10-9F89-8F2DAD7A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DD353-A1C4-4460-A2AA-BBD6E301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D51AC-2E50-437D-8F1D-79DC31F2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35FC7-B2AA-44D1-B7BA-FD32E91E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38C4C-5FAF-4BEE-995C-A4952389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05B08-35F6-4C35-92E8-20B08261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9DC34-CB01-4724-8997-5C3081C3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5BC18-B73E-4076-996E-3E4D5B37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3D38-EACA-487E-8EB2-AF4470C3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889B-7FE8-4BB9-946D-C1332079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243E-FF82-4F82-8A39-5A11004C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D2D6-13AD-4E03-877B-E78428BA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E1B8-BB03-4558-8F86-C875A3BE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2FAD-8E88-4010-9E9B-AC17A50A261E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6DF6-1D06-474B-AAF0-C3EE00CDC8C6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C56A-B37C-42BF-988C-1955DAB6D2BF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C831-5830-4C0D-8DE7-3713B587D2BC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90c226"/>
                </a:solidFill>
                <a:latin typeface="Times New Roman"/>
              </a:rPr>
              <a:t>第二章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7f7f7f"/>
                </a:solidFill>
                <a:latin typeface="Times New Roman"/>
              </a:rPr>
              <a:t>票据概述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（三）票据的丧失与票据权利补救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1.   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票据的丧失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2.   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票据权利的补救措施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公示催告制度，尤以德国与日本为代表；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公告、除权判决、实现票据权利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普通诉讼制度，尤以美国为代表。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     </a:t>
            </a: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实现付款请求权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 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imes New Roman"/>
              </a:rPr>
              <a:t>（四）票据权利时效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二、利益返还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560" y="2060640"/>
            <a:ext cx="821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三、票据抗辩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（一）票据抗辩的概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对人抗辩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2. </a:t>
            </a: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对物抗辩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Times New Roman"/>
              </a:rPr>
              <a:t>对人抗辩事由主要有：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        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04040"/>
                </a:solidFill>
                <a:latin typeface="Times New Roman"/>
              </a:rPr>
              <a:t>欠缺原因关系或者非法原因关系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对物抗辩事由一般根据票据法的有关规定提出的，主要有：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欠缺应记载的事项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未到期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时效届满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债务人欠缺行为能力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无权代理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伪造或者变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</a:rPr>
              <a:t>票据保全手续欠缺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</a:rPr>
              <a:t>     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二）票据抗辩的限制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小结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练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第一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</a:rPr>
              <a:t> 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 票据的概念及特性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一、票据的概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Times New Roman"/>
              </a:rPr>
              <a:t>票据，就是指出票人签发的，无条件的承诺由自己或委托他人支付一定金额的有价证券。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二、票据主要特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要式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形式要件齐全、记载合乎规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无因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产生具有原因关系，如基础贸易合同，资金关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流通转让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流通转让形式：仅凭交付完成转让或者背书转让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流通转让的受让人，其所拥有的票据权利可能超越其前手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设权性和文义性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27628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三、票据的功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．  支付功能（支票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．  信用功能（汇票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．  流通功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56920" y="860400"/>
            <a:ext cx="775476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90c226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90c226"/>
                </a:solidFill>
                <a:latin typeface="Times New Roman"/>
              </a:rPr>
              <a:t>第二节</a:t>
            </a:r>
            <a:r>
              <a:rPr b="0" lang="zh-CN" sz="3200" spc="-1" strike="noStrike">
                <a:solidFill>
                  <a:srgbClr val="90c226"/>
                </a:solidFill>
                <a:latin typeface="Arial"/>
              </a:rPr>
              <a:t>   </a:t>
            </a:r>
            <a:r>
              <a:rPr b="0" lang="zh-CN" sz="3200" spc="-1" strike="noStrike">
                <a:solidFill>
                  <a:srgbClr val="90c226"/>
                </a:solidFill>
                <a:latin typeface="Times New Roman"/>
              </a:rPr>
              <a:t> 票据法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一、票据法概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法就是规定票据种类、票据行为以及票据当事人权利义务等内容的法律规范的总称。票据法包括广义的和狭义的票据法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二、西方各国的票据法（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1930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以前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法国法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德国法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三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 英国法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zh-CN" sz="3600" spc="-1" strike="noStrike">
              <a:solidFill>
                <a:srgbClr val="90c226"/>
              </a:solidFill>
              <a:latin typeface="仿宋_GB2312"/>
              <a:ea typeface="仿宋_GB2312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三、统一票据法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404040"/>
                </a:solidFill>
                <a:latin typeface="仿宋_GB2312"/>
                <a:ea typeface="仿宋_GB2312"/>
              </a:rPr>
              <a:t>  </a:t>
            </a: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（一）大陆法系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《统一汇票本票法公约》、《解决汇票本票法律冲突公约》和《汇票本票印花税法公约》《统一支票法公约》、《解决支票法律冲突公约》、《支票印花税法公约》。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（二）大陆法系与英美法系的分歧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（三）国际汇票和本票公约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900" spc="-1" strike="noStrike">
                <a:solidFill>
                  <a:srgbClr val="404040"/>
                </a:solidFill>
                <a:latin typeface="Trebuchet MS"/>
              </a:rPr>
              <a:t>四、我国票据法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第三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</a:rPr>
              <a:t> 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</a:rPr>
              <a:t> 票据权利与票据抗辩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一、票据权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一）票据权利的概念和分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付款请求权和追索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（二）票据权利的取得和行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1.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权利的取得主要有两种方式，即 原始取得和继受取得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</a:rPr>
              <a:t>2.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</a:rPr>
              <a:t>票据权利的行使，是指持票人请求票据债务人支付票据金额的行为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08:52:15Z</dcterms:created>
  <dc:creator>LENOVO-T60</dc:creator>
  <dc:description/>
  <cp:keywords/>
  <dc:language>en-US</dc:language>
  <cp:lastModifiedBy>li carrie</cp:lastModifiedBy>
  <cp:lastPrinted>1899-12-30T00:00:00Z</cp:lastPrinted>
  <dcterms:modified xsi:type="dcterms:W3CDTF">2023-07-26T04:03:13Z</dcterms:modified>
  <cp:revision>2</cp:revision>
  <dc:subject/>
  <dc:title>第二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