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AA3-C789-4FF8-A51D-E3323E16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B4F-DD74-49EB-9D4F-3130FA99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B56-47ED-451F-8642-C3C982DC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0234-9132-4987-8085-F27B6D06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5E2B-1701-46CB-A39D-049B90AF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C495-EA47-49DB-8E55-9C4CE238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1ECA-4CDF-4AF8-BDFC-FF55C8F8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4A85-BF3D-4BFF-8E6E-13AEB7FF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2B92-EB1B-4F4C-B090-8E2EAD1F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146A-1499-4307-AD3E-BCFF5C2B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19CB-7386-4762-99DE-F0502B6A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78B-71C4-496C-8EE4-8412FEBA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6AF8-813F-46A0-99B1-D98BC048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B2B4-C3FD-4F97-93A1-F4BE28CD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F654-1A32-4989-ADBE-88E9E5EA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900F-E618-4164-BD85-307FEBC7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BA51-5BCA-47D2-ABE6-71B3D525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913B1-D78D-45BA-A73C-59B3D278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2B8FE-6509-4F98-BC70-9D93EDC8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490B5-5B70-4607-94A0-74C60033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EC0B0-5E9C-428A-84E9-4C0B5E5E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4A36E-0325-401E-86A2-7B51039E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EF6-5A8B-4922-B833-44CB95E9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E683B-DBB6-4B88-9FA1-DC39A31D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7618C-AF1A-4478-94DB-4C2E2123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075EE-A9AE-4D91-931A-F9607A35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AF343-DBB5-4C97-B235-0DA6011A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47A5D-A0EA-4D70-ABE2-A3439AF0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C6899-79DB-4C7D-BD3E-295C4CC5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5B0D4-360D-4BD8-946B-32BDD494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C906E-BE63-478D-8EE7-0671C419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67E2F-F0C3-4B57-8302-24C0D2BD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3F8AF-6490-44C2-93AC-2D71BB69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A8B5-3268-4305-9A45-87E837F6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391F4-E284-460C-B738-5DD00068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57FFF-C3F7-40C8-B184-618C8262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1027A-89C8-4D3F-90E2-B5201D93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2FC75-554F-47C4-BE06-F510BF84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642D1-6E97-4FE4-8694-38D651CB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D43CA-C32E-4F41-B603-B557FD48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A873E-ECEF-4C53-BEB5-808C9567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E42D0-B06B-4615-95BF-8EBCC885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A7B0F-3339-481B-A55E-0AF444A9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E71-1F86-4666-90AB-644283C7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79B-0132-4103-8C9E-990F6D05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F67-D056-45F5-BBEC-33837E0B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36E5-F916-451B-9511-81EC4144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6C98-222D-41E4-B7DE-BA71914C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CB784-C653-46BF-8481-CC3581BE5C29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6AAC6-5A05-4761-AD3B-F97F750CA4B6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08620-68D4-4089-82BE-45DB4F59E3B0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19537-5C25-40FB-9538-B710F95E560D}" type="slidenum">
              <a:rPr b="0" lang="zh-CN" sz="900" spc="-1" strike="noStrike">
                <a:solidFill>
                  <a:srgbClr val="90c226"/>
                </a:solidFill>
                <a:latin typeface="Times New Roman"/>
                <a:ea typeface="华文新魏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280" y="1988640"/>
            <a:ext cx="545004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   </a:t>
            </a:r>
            <a:r>
              <a:rPr b="0" lang="zh-CN" sz="5400" spc="-1" strike="noStrike">
                <a:solidFill>
                  <a:srgbClr val="90c226"/>
                </a:solidFill>
                <a:latin typeface="Trebuchet MS"/>
                <a:ea typeface="方正姚体"/>
              </a:rPr>
              <a:t>第三章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040" y="4051440"/>
            <a:ext cx="452124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Trebuchet MS"/>
                <a:ea typeface="华文新魏"/>
              </a:rPr>
              <a:t>汇票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某一特定事件发生后定期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the happening of a specified ev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days after bill of lading date pay to the order of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出票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付款地点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lace of 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任意记载事项，主要有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担当付款行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 Banker designated as paye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(date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Bank Of Europ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预备付款人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feree in case of need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To:  C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 case of need refer 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BC Company, 129 Buffee Street, Lond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免作退票通知或者放弃拒绝证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or Protest waived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 excused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   无追索权（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Without recourse to u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For A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(signed)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00" y="32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三、汇票当事人及其权利义务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基本当事人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其他当事人：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被背书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保证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参加承兑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or for hono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正当持票人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Holder in due cours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imes New Roman"/>
              <a:ea typeface="方正姚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正当持票人的条件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给付对价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善意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.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对票据逾期或者曾被拒绝承兑或付款，或者对任何人就票据提出的任何抗辨或者权利主张，均不知情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四、汇票的种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根据不同的标准，汇票可分为不同种类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即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ht Bill or Demand Draf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远期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ime Bill or Usance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光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Clean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以及跟单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Documentary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   银行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ank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商业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rader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Bill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国内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Inland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和外国汇票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eign Bill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二节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 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汇票的行为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票据行为概念与特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狭义的票据行为与广义的票据行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票据行为具有要式性、无因性、文义性和独立性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出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的背书（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概念和法律效力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背书的种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（三）   背书的伪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特别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peci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, Shangha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空白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lank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第一节</a:t>
            </a:r>
            <a:r>
              <a:rPr b="0" lang="zh-CN" sz="3200" spc="-1" strike="noStrike">
                <a:solidFill>
                  <a:srgbClr val="90c226"/>
                </a:solidFill>
                <a:latin typeface="Arial"/>
                <a:ea typeface="方正姚体"/>
              </a:rPr>
              <a:t>   </a:t>
            </a:r>
            <a:r>
              <a:rPr b="0" lang="zh-CN" sz="32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汇票的概念和必要项目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一、汇票的概念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二、汇票的必要项目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三、汇票当事人及其权利与义务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种类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限制性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  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D Company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(signe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附有条件的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D Company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livery of Bill of lading Nol23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B Company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              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委托收款背书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for collection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ollection pay to the order of Bank of China ,Shanghai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for deposit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ank of China ,Shanghai value in collection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6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设质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Endorsement in pledg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7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回头背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verse endorse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又称还原背书或逆背书，是以票据债务人为被背书人的转让背书。如：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签发一张以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为收款人的汇票，该汇票出票后的流通转让如下表所示：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四、汇票的提示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esentme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五、汇票的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普通承兑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（二）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 </a:t>
            </a:r>
            <a:r>
              <a:rPr b="0" lang="zh-CN" sz="3600" spc="-1" strike="noStrike">
                <a:solidFill>
                  <a:srgbClr val="90c226"/>
                </a:solidFill>
                <a:latin typeface="Times New Roman"/>
                <a:ea typeface="方正姚体"/>
              </a:rPr>
              <a:t> 限制性承兑</a:t>
            </a:r>
            <a:r>
              <a:rPr b="0" lang="zh-CN" sz="3600" spc="-1" strike="noStrike">
                <a:solidFill>
                  <a:srgbClr val="90c226"/>
                </a:solidFill>
                <a:latin typeface="Arial"/>
                <a:ea typeface="方正姚体"/>
              </a:rPr>
              <a:t> 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条件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Condition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delivery of bills of la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部分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rti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for amount of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￡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500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限制地点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Local acceptanc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the Bank of Europe ,London and there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延长付款时间的承兑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Qualified acceptance as to tim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13</a:t>
            </a:r>
            <a:r>
              <a:rPr b="0" lang="zh-CN" sz="18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, July,2o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ninety days after sig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C Compan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（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宋体"/>
                <a:ea typeface="华文新魏"/>
              </a:rPr>
              <a:t>）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六、汇票的付款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七、汇票的退票、退票通知和拒绝证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退票通知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ice of Dishono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拒绝证书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rotest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一、</a:t>
            </a: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汇票的概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Trebuchet MS"/>
                <a:ea typeface="华文新魏"/>
              </a:rPr>
              <a:t>票据，就是指出票人签发的，无条件的承诺由自己或委托他人支付一定金额的有价证券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八、汇票的追索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cours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九、汇票的参加承兑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ance for ho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CCEPTED FOR HONO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f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B   Company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9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, July,2o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—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K Compan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       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（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signed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imes New Roman"/>
                <a:ea typeface="华文新魏"/>
              </a:rPr>
              <a:t>）</a:t>
            </a:r>
            <a:r>
              <a:rPr b="0" lang="zh-CN" sz="26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600" spc="-1" strike="noStrike">
              <a:solidFill>
                <a:srgbClr val="90c226"/>
              </a:solidFill>
              <a:latin typeface="Trebuchet MS"/>
              <a:ea typeface="方正姚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      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十、汇票的保证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Guarante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MENT GUARANTEED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For account of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igned by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d on </a:t>
            </a:r>
            <a:r>
              <a:rPr b="0" lang="zh-CN" sz="1800" spc="-1" strike="noStrike" u="sng">
                <a:solidFill>
                  <a:srgbClr val="404040"/>
                </a:solidFill>
                <a:uFillTx/>
                <a:latin typeface="Trebuchet MS"/>
                <a:ea typeface="华文新魏"/>
              </a:rPr>
              <a:t>     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绝对必要项目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汇票字样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Bill of exchang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二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无条件支付命令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Unconditional order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in our No.I accoun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provided the goods the supply are complied with contract the sum of one thousand pound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三）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确定的金额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moun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利息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plus interest calculated at the rate of 3% per annum from the date hereof to the date of payment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分期付款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by ten equal consecutive monthly installments.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带有支付其他货币记载的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the sum of one thousand pounds converted into US dollar at current rate of exchange.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四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付款人的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draw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五）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收款人名称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ame of payee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限制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Restric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only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或者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，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Not Transferable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        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指示性抬头（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Demonstrative Order</a:t>
            </a:r>
            <a:r>
              <a:rPr b="0" lang="zh-CN" sz="22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the order of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order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2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</a:t>
            </a:r>
            <a:r>
              <a:rPr b="0" lang="zh-CN" sz="22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来人抬头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Bearer Order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 to B Company or bear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六）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  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出票日期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ate of issue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（七）出票人签章（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Drawer</a:t>
            </a:r>
            <a:r>
              <a:rPr b="0" lang="zh-CN" sz="1800" spc="-1" strike="noStrike">
                <a:solidFill>
                  <a:srgbClr val="404040"/>
                </a:solidFill>
                <a:latin typeface="Arial"/>
                <a:ea typeface="华文新魏"/>
              </a:rPr>
              <a:t>’</a:t>
            </a:r>
            <a:r>
              <a:rPr b="0" lang="zh-CN" sz="1800" spc="-1" strike="noStrike">
                <a:solidFill>
                  <a:srgbClr val="404040"/>
                </a:solidFill>
                <a:latin typeface="Trebuchet MS"/>
                <a:ea typeface="华文新魏"/>
              </a:rPr>
              <a:t>s signature</a:t>
            </a:r>
            <a:r>
              <a:rPr b="0" lang="zh-CN" sz="1800" spc="-1" strike="noStrike">
                <a:solidFill>
                  <a:srgbClr val="404040"/>
                </a:solidFill>
                <a:latin typeface="宋体"/>
                <a:ea typeface="华文新魏"/>
              </a:rPr>
              <a:t>）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票据上的相对必要项目，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（一）付款日期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Tenor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汇票是信用工具，其付款期限有两种，即期和远期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即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sight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demand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presentation pay to the order of  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90c226"/>
                </a:solidFill>
                <a:latin typeface="Trebuchet MS"/>
                <a:ea typeface="方正姚体"/>
              </a:rPr>
              <a:t>二、汇票的必要项目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远期：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．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 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 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on a fixed future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On 20</a:t>
            </a:r>
            <a:r>
              <a:rPr b="0" lang="zh-CN" sz="2600" spc="-1" strike="noStrike" baseline="30000">
                <a:solidFill>
                  <a:srgbClr val="404040"/>
                </a:solidFill>
                <a:latin typeface="Trebuchet MS"/>
                <a:ea typeface="华文新魏"/>
              </a:rPr>
              <a:t>th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,July 20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××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pay to the order 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出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date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date pay to the order of 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．见票后定期付款（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Payable at a fixed time after sight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）。如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“</a:t>
            </a:r>
            <a:r>
              <a:rPr b="0" lang="zh-CN" sz="2600" spc="-1" strike="noStrike">
                <a:solidFill>
                  <a:srgbClr val="404040"/>
                </a:solidFill>
                <a:latin typeface="Trebuchet MS"/>
                <a:ea typeface="华文新魏"/>
              </a:rPr>
              <a:t>At 30 days after sight pay to the order of</a:t>
            </a:r>
            <a:r>
              <a:rPr b="0" lang="zh-CN" sz="2600" spc="-1" strike="noStrike">
                <a:solidFill>
                  <a:srgbClr val="404040"/>
                </a:solidFill>
                <a:latin typeface="Arial"/>
                <a:ea typeface="华文新魏"/>
              </a:rPr>
              <a:t>”</a:t>
            </a:r>
            <a:r>
              <a:rPr b="0" lang="zh-CN" sz="2600" spc="-1" strike="noStrike">
                <a:solidFill>
                  <a:srgbClr val="404040"/>
                </a:solidFill>
                <a:latin typeface="Times New Roman"/>
                <a:ea typeface="华文新魏"/>
              </a:rPr>
              <a:t>；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8:19:14Z</dcterms:created>
  <dc:creator>chen xiaolong</dc:creator>
  <dc:description/>
  <cp:keywords/>
  <dc:language>en-US</dc:language>
  <cp:lastModifiedBy>li carrie</cp:lastModifiedBy>
  <cp:lastPrinted>1899-12-30T00:00:00Z</cp:lastPrinted>
  <dcterms:modified xsi:type="dcterms:W3CDTF">2023-07-26T04:07:32Z</dcterms:modified>
  <cp:revision>25</cp:revision>
  <dc:subject/>
  <dc:title>第三章        汇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